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3103-5247-402E-A65B-3BC267BD9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FD14-39F4-40EF-9A31-8D4C4BD8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1440C-60A5-4599-A9C1-350DCBE1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4058FD-1ECB-4769-B93F-1B237E11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A1F4D4-AF93-42A5-8C3C-EF780DDD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FE7D7-41A0-4CFA-BC2A-1CCD8699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16653-7D89-4B14-B8FB-0F4D6DD0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25010-E429-4DA6-8474-4D0BDB54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CF0F69-7AC1-4746-B737-32948C7B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791617-B040-42C3-8DD7-18999BB0E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2ACCB7-21E4-4606-9D07-5E5ACAC17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9BD695-0668-4B64-9DE9-94D457160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ECCC-F180-4460-950F-A19B68A10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CBDB86-B9B3-4676-85A2-AEEA88EE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FB5D2E-F78C-4761-A23A-376AC3AA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346C2-94B6-4A28-AD5D-4471657E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52F2C7-984C-4010-8F31-446364CA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9D6294-5E26-49FF-A17E-F0605D91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A4AC46-0458-4BEC-A928-EC22D5A7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80F025-3A7F-426D-8F25-AC87F182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AC8234-5974-4B37-ADA9-032ADA3B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3738F4-4240-484E-807F-3B816842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0C1D7-D4FF-4C7A-A1D0-17FB26145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875A-6B8C-4F25-9935-088786E6A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84C24-1972-4606-8720-D96272230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14A5A-0CEF-4467-9C0D-9C6544D78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83EA1-DEE1-47FA-99DB-4860234D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9D2BA-727B-47FB-AC69-E35BC026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85ABCD-D4E0-4181-AA8E-5015554A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E71C21-21CC-44BC-AEC6-21E23917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93BF7-CA5C-4C2C-B0C8-B3A32CC8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F8240-03AC-4B22-9664-45A15531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BFE30-5165-441B-B801-1D6CCB89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EEADE-8D70-4DD1-97B9-45F38D9A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1BCA-6A01-44D2-B03B-5D794FA72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07E57C-12D7-4859-936E-5B837AAC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EFF55-F208-4C11-B691-49B0A5AD8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03CF6-E3D4-4E3C-8F96-741F89D64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635296-34CB-4361-957E-739A3CCC0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5346B4-A828-4027-816F-3EB0EE7E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B88E1D-2841-4371-967B-67C18A2B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C85CDA-A468-428D-801C-37D7A1A9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78A7ED-8ADF-4C83-B656-0ECD64F3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28AC15-BC55-4A3E-B007-2C95197F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E5DC55-2C7D-4E0D-B6C3-2AF0F4FA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25BB-BBEB-4573-90FF-61E495ED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9FF7EF-E711-43FB-A275-7F3B5856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7DFC75-251D-44CD-BB9F-7D6AC857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DCC22B-85B1-430A-AD37-61664FDC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D3FC1F-3713-47E9-A173-3E7882E98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1C44C9-2DF0-4767-A187-AB48133DF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0A59-0CC9-45DC-8669-5002E0FB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2FCD-6E67-474C-9C92-9D226AB0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76A2-19A6-4EAB-88CA-8919CE53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C4CF-BAD4-4754-85D6-3164705F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ADBB-F902-4ABB-B101-E4737E90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7AC9-A570-4F78-A280-A16744BF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31C1-BCF3-4E5C-B39E-A9EA3AFB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82F6-4CBB-40A3-8100-93F1D7EA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A341-C232-4B4D-8732-B8F11065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CF41-E06B-45BC-BADF-84B62EFC6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74C6-3782-4211-ABB3-03A5D61CE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6F568-557E-48A4-A81A-781FB3722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1D737-5131-47E5-970A-30456AF8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754E3-EDBE-4D99-A532-5605E185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6827C-68AA-432C-B5D9-71E3F809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F2B36-0DE5-4F03-A06F-2B633A04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85AB-7A9A-43F2-B201-1C3FF346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8290C-2788-4135-A0B1-894B9911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0F78F-8BCE-42F2-AED3-0CC24544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81F06-8F33-443F-8F19-A613A871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5F6CB-800D-470F-A080-A1D28622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626FD-345A-430A-B4FC-FDA834F2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25AC1-DDD3-4770-B4A4-8289183D6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66909-97C8-416B-AB24-D225E142F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38B5C-3734-43FF-9ACD-95BB76301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8FD47-4AD0-4599-8454-0260B640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00314-7C54-401E-81C2-EAA1D7B0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6240-52C5-49B6-97B5-A5CFF29F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3E3E8-2776-4317-AF3B-C722D29C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FF272-4BBE-4179-B9D2-64BD4AFB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97E4B-28FB-4586-89CC-B2E3AFA7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0DED6-15B3-4B2F-A598-7E71B15D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ADA5E-5BA2-4F51-9E05-7FF834E3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0ECEA-0BD0-422F-A384-4223B53B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8234F-9916-4AA1-8CB0-50B043CE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F7131-96ED-4932-A41D-4AB129863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79F05-62BF-4AAF-BF3E-40D4CA027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24EB4-F1F2-47A0-B68F-98C6381F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D11D-72D9-450D-83C4-276DA6AD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8EFB3-CD1B-4AFD-A008-82ECB7D1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8B6EA-B3F2-40F0-B680-13F5FBF9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E9241-B4F2-454B-A452-F39C87FD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E40F2-CE8A-4CB6-AB79-397F81F4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C61D6-EB9F-4DA4-A350-DD9C22FB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2DC83-8374-4957-83A1-53E2BB72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26440-60A8-42CE-8DC8-CDEF8692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F20E6-C6F7-4C89-96D1-4ADF1B66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E60AB-765A-49DD-9A68-9B7E9D12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93FF0-CBF8-46F3-9E57-90C50DAD3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1579-0DC0-4D2C-8BC2-84AB47F3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D38FC-F2CC-4FB9-9C6A-DEB56EE0E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A58E6-034A-4BE0-A957-72CA131E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5CF2B-151B-4718-B6D3-62B40D6B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8846F-2DB3-4275-A934-1169AA55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E6614-FC30-439B-80E4-CBBF927D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31D5D-EF9D-4334-888C-9AC2E42A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20062-6F89-4378-904F-FC32A617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8A5DE-677F-4A1A-8910-7DD6D42F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75DF0-2B2C-4CC8-AEFF-5C1ECF09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F3D6F-880A-4DA5-BF31-583091AC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57C6-E97A-47A0-B865-43CA1A45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B79FC-C764-4F71-88C9-E20C843B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07C8E-943A-4686-BAA2-F49D11C03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FAE2C-CDC1-4CEF-9C02-EA2DEE453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9578C-EB9B-48A2-9A10-08834B88E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8A04A-C809-4563-AFFB-490B030A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4006B-ECC1-41C3-A745-FC6597FD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DE6AF-9795-4805-936D-A07A4FA6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73621-0172-40A6-9005-8488CEEA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6CF14-84CA-4256-B0E4-B3191D39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299F0-DA14-497F-975A-BB88D2E4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BCD2-0AE5-4B02-A1CB-E5095A14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C5B1C-55DE-4C64-8EE6-034B5643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DC9D1-CC21-480A-8797-D3D63D7D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EEC18-C759-4261-B402-786D9AAE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09563-45B3-4AE3-9258-E398D6C14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77DE1-C0D6-4C19-AB70-DB9F7FED2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EC5F4-7FCA-4CE1-88DE-C40FA804A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AA25F-4EE6-49C6-BD9E-859ADB26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D3A44-7D6B-43A6-95D5-D5E62530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13E1B-4FBC-44B3-B148-77FF14DA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1B412-030C-4948-A3B6-60605889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0C29-5A59-4B8F-9852-77661136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27A91-F4A6-4354-9E9E-CF49A608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764EA-6DC7-459F-86D6-CFBC3051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0C572-E6F9-4D43-828A-29A90228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7D8F2-CC57-4E53-B1B2-F9423C10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40C48-3B58-4556-9353-68BCBE4F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C1276-71B9-4D8A-A1F0-77D173577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723A8-6F7D-4151-A572-52CCE9262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3FD55-F1D4-4813-9196-3007E9A07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9B2CF-348C-436B-8B3C-D209FA7A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99A51F-B200-476B-9209-E4BBE62E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04D2-EE4D-437D-9A58-04BC7F51F58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7035-76FC-4E8F-B94F-0599BE30115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4F84-DF45-4A0F-9355-99DD84E34E1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D7F3-D9B1-4491-8D38-F53A9B89974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5C00-DDB5-414C-B5A1-EC22C12C10A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0B8C-65A2-47F3-8DAA-C29E872D126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FAF7-2FAE-40C7-BCA7-C7357AE124B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C857-57F1-4451-8AF0-0A382E4F559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1448-BEBE-401E-A721-07EA2255AE9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B49A-7A9B-4A9E-ABFB-976C7F5B017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2E2E-1FA7-48D7-8A01-4B087016CA6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B9B7-4723-4134-8A35-6E04E650486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03 Tvoj deň sa zas ku koncu chýl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oj deň sa zas ku koncu chýl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vzdať ti Pane obeť chvá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i vrúcnu vďaku v tejto chvíl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dary, čo si z lásky dal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občerstvil si dušu moj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sklonil si sa ku mne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dávaš novú silu k boj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ceste k novým víťazstvám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s objala ma láska čist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á tvoja milosť velik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nevídané veci chyst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 karhajúceho hriešnik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eň sobotný mi pirpomín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ty si Pán, môj Stvorit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v tvojej láske odpočí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 našiel v tebe večný cieľ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I v novom týždni, drahý Pa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ne blízkosť svoju cítiť d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oheň viery vo nne pla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sám som slabý, pamät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ne dovoľ, prosí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vstúpiť zas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odpočinku novéh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ám sprevádzaj ma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každom čas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ochraňuj vždy od zlého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3:53:45Z</dcterms:modified>
  <cp:revision>11</cp:revision>
  <dc:subject/>
  <dc:title>Je veľký náš Pán, on slávy je Kráľ Nech do všetkých strán  spev vrúcnych znie chvál.</dc:title>
</cp:coreProperties>
</file>